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7AEF-4ACC-4BBB-A0CC-AC992D235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effective, Effective, Neither effectively nor ineffectively (2006 ”ineffectively”), Mostly ineffectively (2006 “Doesn’t fight at all”), Very ineffectively (2006 “Encourages corruption”), I don’t know, without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t increase, Increase, Same, Decrease, Significant Decrease, Doesn’t know/no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, Judiciary, Medical services, Police, Registry and permit service, Telephone services, Electricity provider, Water service provider, Gas provider, Tax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, Judiciary, Medical services, Police, Registries and permit service, Utilities, Tax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Revenue, Municipal services, Registration and permit services, Police, Medical services, Judiciary, Education, Religious Communities, NGO, Military, Media, Private Sector, Parliament, Political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A37-D75A-4A28-A1C3-853484D3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829-3241-446B-8226-F9C7BF87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3D3-CB2D-43FD-9518-A7F06FB7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8CC-AB9F-4BFF-BB13-F44DF590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BA8-4EDD-4856-9BF7-170BCA21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6D5A-0439-4F5F-9110-1477BCD5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0B8-AA12-415A-8B26-F9676FFD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33E-C879-43AB-BB1E-C6E62DEF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E9C9-7D3B-4406-BD46-366649A2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31B5-E0EA-4BF5-B468-72FAF895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DD7-5E26-4D17-B3DD-92BB5572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7D3B-D6C2-43FB-A8FC-6CD52FDB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5CAF-2CF7-4759-B2DB-A14A2D009C33}" type="slidenum">
              <a:rPr b="0" lang="sr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3051000" cy="62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Corruption Barometer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conference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ed Nations Office on Drugs and Crime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grade 7 December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bing in education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12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8360" y="1628640"/>
          <a:ext cx="806436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06436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bing for medical services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12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826920" y="1628640"/>
          <a:ext cx="7632720" cy="424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628640"/>
                    <a:ext cx="763272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bing of Police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4360" y="1628640"/>
          <a:ext cx="7920000" cy="424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92000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bing of Registration and permit services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12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00000" y="1557360"/>
          <a:ext cx="7559640" cy="42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55964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bing of Tax Revenue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12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71600" y="1704960"/>
          <a:ext cx="8727840" cy="49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1704960"/>
                    <a:ext cx="872784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t changes considering last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had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ffirmative answer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iciary had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8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ffirmative answer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services had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17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ffirmative answer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21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ffirmative answer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ies and permit services had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5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ffirmative answer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enterprises had and stayed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 Revenue had and stayed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erage value of last bribe paid in eu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8520" cy="4525560"/>
        </p:xfrm>
        <a:graphic>
          <a:graphicData uri="http://schemas.openxmlformats.org/drawingml/2006/table">
            <a:tbl>
              <a:tblPr/>
              <a:tblGrid>
                <a:gridCol w="4447080"/>
                <a:gridCol w="3781440"/>
              </a:tblGrid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diciary org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ies and permit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phone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ity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x Reven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 on direct experience of citizens with corru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onfirmed cases of citizens bribing public services is decreasin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12,44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ose who used some service of institutions listed gave bribe at least once in pa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 of respondents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40 %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respond to all of this question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gives possibility for fear that number of current cases of corruption is far larger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, more probably, citizens who bribed didn’t want to answer, than those who didn’t brib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urrent cases of citizens’ bribing is certainly larger because some questions and areas weren’t object of surveyin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custom service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bing for employmen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bing of inspection service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project of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parency International and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llup Internationa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conducted for four years in a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is part of th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Voice of the People</a:t>
            </a:r>
            <a:r>
              <a:rPr b="1" i="1" lang="en-GB" sz="2400" spc="-1" strike="noStrike" baseline="30000">
                <a:solidFill>
                  <a:srgbClr val="000000"/>
                </a:solidFill>
                <a:latin typeface="Arial"/>
              </a:rPr>
              <a:t>©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 (VOP)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is conducted this year i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6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and terr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erbia field work was conducted fro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1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1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2007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national sample of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100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ents which represents overall populatio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Serbia and Vojvodin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was conducted by TN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Medium Gallu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to fac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effectively is government fighting corruption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20720"/>
          <a:ext cx="8229600" cy="448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20720"/>
                    <a:ext cx="82296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of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grade of Government’s actions against corruption is slightly worse considering last year’s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2,77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2,7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n’t certain which government was evaluated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ing the period of surveying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2007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Government was established in May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most likely that citizens evaluated general efficiency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te administration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not just certain Government as 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tizens’ expectations in regards to level of corruption for next three years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95280" y="1700280"/>
          <a:ext cx="828036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00280"/>
                    <a:ext cx="82803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services citizens were in contact with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%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ths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55640" y="1700280"/>
          <a:ext cx="784872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00280"/>
                    <a:ext cx="78487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tizens’ perception on level of corruption in key institutions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%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30440"/>
          <a:ext cx="822960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30440"/>
                    <a:ext cx="822960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tizens’ perception on corruption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erage grade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1341360"/>
          <a:ext cx="91440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1440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often was bribe asked for from citizens in certain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service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iciar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ie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Revenu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ies and permit service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is calculated against number of respondents who were in contact with institutio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fers to last 1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h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examinatio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4:30:29Z</dcterms:created>
  <dc:creator>Nemanja</dc:creator>
  <dc:description/>
  <dc:language>en-US</dc:language>
  <cp:lastModifiedBy>User</cp:lastModifiedBy>
  <dcterms:modified xsi:type="dcterms:W3CDTF">2014-03-27T12:18:33Z</dcterms:modified>
  <cp:revision>12</cp:revision>
  <dc:subject/>
  <dc:title>Глобални барометар корупције 2007</dc:title>
</cp:coreProperties>
</file>